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969696"/>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Click to move the slide</a:t>
            </a:r>
            <a:endParaRPr b="0" lang="en-US" sz="4000" spc="-1" strike="noStrike">
              <a:solidFill>
                <a:srgbClr val="99eff1"/>
              </a:solidFill>
              <a:latin typeface="Arial Black"/>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CB23B-87BA-4D7A-ADB7-03A529D452A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ing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matter is composed of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are the smallest particle of an element that retains its identity in a chemical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 comes from the Greek word atomos meaning indivi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efining the Atom</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ll matter is composed of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are the smallest particle of an element that retains its identity in a chemical reacti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 comes from the Greek word atomos meaning indivisibl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32 English physicist James Chadwick (1891-1974) confirmed the existence of another subatomic parti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 are subatomic particles with no charge but a mass nearly equal to the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Neu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In 1932 English physicist James Chadwick (1891-1974) confirmed the existence of another subatomic particl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Neutrons are subatomic particles with no charge but a mass nearly equal to the prot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s Gold-Foil Exper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xperiment change the prevailing thought of the structure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is experiment Rutherford concluded that most the of alpha particles pass through b/c the atom is mostly empty space, and the reason that some of the particles were deflected were due to the concentration of the positive charge in the atom which is now known as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Rutherford’s Gold-Foil Experiment</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is experiment change the prevailing thought of the structure of the atom.</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Because of this experiment Rutherford concluded that most the of alpha particles pass through b/c the atom is mostly empty space, and the reason that some of the particles were deflected were due to the concentration of the positive charge in the atom which is now known as the nucleu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cleus of the atom is the tiny central core of an atom and is composed of protons and 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therford’s model is the nuclear atom: In the nuclear atom, the proton and neutron are located in the nucleus. The electrons are distributed around the nucle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ill later be revised, let’s sneak peak @ page 12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Structure of the atom</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nucleus of the atom is the tiny central core of an atom and is composed of protons and neu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Rutherford’s model is the nuclear atom: In the nuclear atom, the proton and neutron are located in the nucleus. The electrons are distributed around the nucleus. </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is will later be revised, let’s sneak peak @ page 128.</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inguishing Among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learned yesterday that atoms are composed of protons, neutrons, and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nd Neutrons are in the nucleus and electrons surround the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do elements differ if they all contain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istinguishing Among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We learned yesterday that atoms are composed of protons, neutrons, and elec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Protons and Neutrons are in the nucleus and electrons surround the nucleu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So how do elements differ if they all contain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ments are different because they contain different numbers of 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omic number of an element is the number of protons in the nucleus of an atom in that ele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The atomic number of Hydrogen (H) is 1, so all hydrogen atoms have 1 pro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All Oxygen atoms (O) have 8 protons, so the atomic number of Oxygen is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ic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lements are different because they contain different numbers of prot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atomic number of an element is the number of protons in the nucleus of an atom in that element.</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The atomic number of Hydrogen (H) is 1, so all hydrogen atoms have 1 prot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All Oxygen atoms (O) have 8 protons, so the atomic number of Oxygen is 8.</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ll atoms are electrically neut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the number of Protons equal the number of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ing the number of negatively charged particles must equal the number of postively charged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ic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Remember all atoms are electrically neutral.</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refore; the number of Protons equal the number of Elec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eaning the number of negatively charged particles must equal the number of postively charged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the mass of an atom is concentrated in its nucl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ss number of an atom is the total number of protons and neutrons in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Helium (He) has 2 protons and 2 neutrons: its mass number is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Carbon (C) has 6 protons and 6 neutrons: its mass number is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ass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ost of the mass of an atom is concentrated in its nucleu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mass number of an atom is the total number of protons and neutrons in an atom.</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Helium (He) has 2 protons and 2 neutrons: its mass number is 4.</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Carbon (C) has 6 protons and 6 neutrons: its mass number is12.</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know the atomic number and mass number of an atom, you can determine its compo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umber of neutrons in an atom is the difference between the mass number and atomic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of neutrons = Mass # - Ato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ass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If you know the atomic number and mass number of an atom, you can determine its compositi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number of neutrons in an atom is the difference between the mass number and atomic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 of neutrons = Mass # - Atomic #</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osition of an atom can be written in Shorthand notation using atomic number and mass nu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 Look at Figure 4.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tomic number is the subscript and the mass number is the superscrip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electrons does a gold atom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neutrons does a gold atom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Mass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composition of an atom can be written in Shorthand notation using atomic number and mass number.</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x: Look at Figure 4.8</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atomic number is the subscript and the mass number is the superscript. </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How many electrons does a gold atom hav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How many neutrons does a gold atom hav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it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itus (460 BC – 370 BC) was among the 1st to suggest the existence of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critus believed that atoms were indivisible and indestruct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 approached was not based on scientific method and was not accepted until later scientif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emocritu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emocritus (460 BC – 370 BC) was among the 1st to suggest the existence of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emocritus believed that atoms were indivisible and indestructibl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His approached was not based on scientific method and was not accepted until later scientif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lton’s Atom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dern atomic thought began with John Dalton (1766-184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lton used experimental method to transform Democritus’s idea of atoms into a scientif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lton studied the ratios in which elements combine and the result was Dalton’s atom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alton’s Atom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modern atomic thought began with John Dalton (1766-1844)</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alton used experimental method to transform Democritus’s idea of atoms into a scientif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alton studied the ratios in which elements combine and the result was Dalton’s atom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lton’s Atomic Theo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s of Dalton’s Theory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elements are composed of tiny particles called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of the same element are identical. Atoms of different elements are 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of different elements can physically mix together or chemically combine in simple whole number ratios to form compou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mical reactions occur when atoms are separated, joined, or rearranged. Atoms of one element are never chang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alton’s Atomic Theor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 ideas of Dalton’s Theory are:</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ll elements are composed of tiny particles called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of the same element are identical. Atoms of different elements are different.</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of different elements can physically mix together or chemically combine in simple whole number ratios to form compound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Chemical reactions occur when atoms are separated, joined, or rearranged. Atoms of one element are never changed.</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zing Up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ARE TI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ure copper coin the size of a penny contains 2.4 x 1022   copper atoms. There are only about 6 x 109 people on Ea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 atoms are observable with instruments such as scanning tunneling microsco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Sizing Up Atom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ARE TIN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 pure copper coin the size of a penny contains 2.4 x 1022   copper atoms. There are only about 6 x 109 people on Earth!!!</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Individual atoms are observable with instruments such as scanning tunneling microscop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s are now know to be broken down into smaller, more fundamental particles called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3 kinds of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u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Atoms are now know to be broken down into smaller, more fundamental particles called 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re are 3 kinds of 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lec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Prot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Neu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covered in 1897 by J.J. Thomson (1856-1940) an English physic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negatively charged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mson performed experiments using a sealed glass tube with gases in it. He passed an electric current through the tube and the result was a cathode 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lectr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Discovered in 1897 by J.J. Thomson (1856-1940) an English physicist.</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ey are negatively charged 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Thomson performed experiments using a sealed glass tube with gases in it. He passed an electric current through the tube and the result was a cathode ra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Continu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physicist Robert A. Millikan (1868-1953) carried out experiments to find the quantity of charge carried out by an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calculated the mass of the electron; that is very similar to the excepted mass given to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lectrons Continued</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U.S. physicist Robert A. Millikan (1868-1953) carried out experiments to find the quantity of charge carried out by an electr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He calculated the mass of the electron; that is very similar to the excepted mass given today.</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gen Goldstein (1850-1930) observed in 1886 that in a cathode-ray tube there were rays going in the opposite direction. He concluded they were positively charged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ns are positively charged subatomic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proton has a mass about 1840 times that of an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Proton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ugen Goldstein (1850-1930) observed in 1886 that in a cathode-ray tube there were rays going in the opposite direction. He concluded they were positively charged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Protons are positively charged subatomic particles.</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69696"/>
                </a:solidFill>
                <a:latin typeface="Arial"/>
              </a:rPr>
              <a:t>Each proton has a mass about 1840 times that of an electron.</a:t>
            </a:r>
            <a:endParaRPr b="0" lang="en-US" sz="1200" spc="-1" strike="noStrike">
              <a:solidFill>
                <a:srgbClr val="96969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6969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84DB8-9979-4CDC-8D22-A9AD7BD339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27" name="PlaceHolder 2"/>
          <p:cNvSpPr>
            <a:spLocks noGrp="1"/>
          </p:cNvSpPr>
          <p:nvPr>
            <p:ph/>
          </p:nvPr>
        </p:nvSpPr>
        <p:spPr>
          <a:xfrm>
            <a:off x="228600" y="167652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8" name="PlaceHolder 3"/>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03916-54F7-4813-B5BE-29B096DDE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0"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1"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2"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3" name="PlaceHolder 5"/>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155327-6CA3-43B5-B9EF-86256CC915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5" name="PlaceHolder 2"/>
          <p:cNvSpPr>
            <a:spLocks noGrp="1"/>
          </p:cNvSpPr>
          <p:nvPr>
            <p:ph/>
          </p:nvPr>
        </p:nvSpPr>
        <p:spPr>
          <a:xfrm>
            <a:off x="22860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6" name="PlaceHolder 3"/>
          <p:cNvSpPr>
            <a:spLocks noGrp="1"/>
          </p:cNvSpPr>
          <p:nvPr>
            <p:ph/>
          </p:nvPr>
        </p:nvSpPr>
        <p:spPr>
          <a:xfrm>
            <a:off x="316584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7" name="PlaceHolder 4"/>
          <p:cNvSpPr>
            <a:spLocks noGrp="1"/>
          </p:cNvSpPr>
          <p:nvPr>
            <p:ph/>
          </p:nvPr>
        </p:nvSpPr>
        <p:spPr>
          <a:xfrm>
            <a:off x="610272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8" name="PlaceHolder 5"/>
          <p:cNvSpPr>
            <a:spLocks noGrp="1"/>
          </p:cNvSpPr>
          <p:nvPr>
            <p:ph/>
          </p:nvPr>
        </p:nvSpPr>
        <p:spPr>
          <a:xfrm>
            <a:off x="22860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9" name="PlaceHolder 6"/>
          <p:cNvSpPr>
            <a:spLocks noGrp="1"/>
          </p:cNvSpPr>
          <p:nvPr>
            <p:ph/>
          </p:nvPr>
        </p:nvSpPr>
        <p:spPr>
          <a:xfrm>
            <a:off x="316584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0" name="PlaceHolder 7"/>
          <p:cNvSpPr>
            <a:spLocks noGrp="1"/>
          </p:cNvSpPr>
          <p:nvPr>
            <p:ph/>
          </p:nvPr>
        </p:nvSpPr>
        <p:spPr>
          <a:xfrm>
            <a:off x="610272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1D6A62-CF58-4425-A1A3-9435EE0E2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26C79A-CAA1-4CE6-8BA0-B145BE997A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47" name="PlaceHolder 2"/>
          <p:cNvSpPr>
            <a:spLocks noGrp="1"/>
          </p:cNvSpPr>
          <p:nvPr>
            <p:ph type="subTitle"/>
          </p:nvPr>
        </p:nvSpPr>
        <p:spPr>
          <a:xfrm>
            <a:off x="228600" y="1676520"/>
            <a:ext cx="86868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BF3EC-61A2-405D-816E-C5BC6B18D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49" name="PlaceHolder 2"/>
          <p:cNvSpPr>
            <a:spLocks noGrp="1"/>
          </p:cNvSpPr>
          <p:nvPr>
            <p:ph/>
          </p:nvPr>
        </p:nvSpPr>
        <p:spPr>
          <a:xfrm>
            <a:off x="228600" y="1676520"/>
            <a:ext cx="8686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4D06FF-C5C3-46E7-BFED-EF8749795F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51"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2"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730F3D-32B7-4440-B6C6-977DBEF8C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067B74-66C7-43EC-8582-8AB24CB610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837720"/>
            <a:ext cx="86868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A8A78D-579B-4531-9478-89AE9323D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56"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7"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8"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923FE-333C-4BCE-8696-A57F45237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 name="PlaceHolder 2"/>
          <p:cNvSpPr>
            <a:spLocks noGrp="1"/>
          </p:cNvSpPr>
          <p:nvPr>
            <p:ph type="subTitle"/>
          </p:nvPr>
        </p:nvSpPr>
        <p:spPr>
          <a:xfrm>
            <a:off x="228600" y="1676520"/>
            <a:ext cx="86868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ED993-5294-4026-AE0E-2A01F0E08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0"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1"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2" name="PlaceHolder 4"/>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4702B-AB0B-426D-B5AB-AB5B58ECD8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4"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5"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6" name="PlaceHolder 4"/>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76941F-DD45-4E0F-BC11-8631584531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68" name="PlaceHolder 2"/>
          <p:cNvSpPr>
            <a:spLocks noGrp="1"/>
          </p:cNvSpPr>
          <p:nvPr>
            <p:ph/>
          </p:nvPr>
        </p:nvSpPr>
        <p:spPr>
          <a:xfrm>
            <a:off x="228600" y="167652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9" name="PlaceHolder 3"/>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C2A02-97A7-481B-B8A9-D6805FA435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71"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2"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3"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4" name="PlaceHolder 5"/>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1560D1-DB10-4B6F-B38B-05BE391E54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76" name="PlaceHolder 2"/>
          <p:cNvSpPr>
            <a:spLocks noGrp="1"/>
          </p:cNvSpPr>
          <p:nvPr>
            <p:ph/>
          </p:nvPr>
        </p:nvSpPr>
        <p:spPr>
          <a:xfrm>
            <a:off x="22860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7" name="PlaceHolder 3"/>
          <p:cNvSpPr>
            <a:spLocks noGrp="1"/>
          </p:cNvSpPr>
          <p:nvPr>
            <p:ph/>
          </p:nvPr>
        </p:nvSpPr>
        <p:spPr>
          <a:xfrm>
            <a:off x="316584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8" name="PlaceHolder 4"/>
          <p:cNvSpPr>
            <a:spLocks noGrp="1"/>
          </p:cNvSpPr>
          <p:nvPr>
            <p:ph/>
          </p:nvPr>
        </p:nvSpPr>
        <p:spPr>
          <a:xfrm>
            <a:off x="6102720" y="167652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79" name="PlaceHolder 5"/>
          <p:cNvSpPr>
            <a:spLocks noGrp="1"/>
          </p:cNvSpPr>
          <p:nvPr>
            <p:ph/>
          </p:nvPr>
        </p:nvSpPr>
        <p:spPr>
          <a:xfrm>
            <a:off x="22860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80" name="PlaceHolder 6"/>
          <p:cNvSpPr>
            <a:spLocks noGrp="1"/>
          </p:cNvSpPr>
          <p:nvPr>
            <p:ph/>
          </p:nvPr>
        </p:nvSpPr>
        <p:spPr>
          <a:xfrm>
            <a:off x="316584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81" name="PlaceHolder 7"/>
          <p:cNvSpPr>
            <a:spLocks noGrp="1"/>
          </p:cNvSpPr>
          <p:nvPr>
            <p:ph/>
          </p:nvPr>
        </p:nvSpPr>
        <p:spPr>
          <a:xfrm>
            <a:off x="6102720" y="4064760"/>
            <a:ext cx="279684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BF7115-6EDB-40B8-9599-E5F5BEAA8E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8" name="PlaceHolder 2"/>
          <p:cNvSpPr>
            <a:spLocks noGrp="1"/>
          </p:cNvSpPr>
          <p:nvPr>
            <p:ph/>
          </p:nvPr>
        </p:nvSpPr>
        <p:spPr>
          <a:xfrm>
            <a:off x="228600" y="1676520"/>
            <a:ext cx="86868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BD651-80C4-47F5-97D2-F7EE4D711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10"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1"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24365-9C88-4A2A-A7EF-D0CF1996D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F8340-1C12-4FEE-9F5E-399F106F3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837720"/>
            <a:ext cx="86868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9DFEF-E39F-4A66-AFFD-7882546FA5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15"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6" name="PlaceHolder 3"/>
          <p:cNvSpPr>
            <a:spLocks noGrp="1"/>
          </p:cNvSpPr>
          <p:nvPr>
            <p:ph/>
          </p:nvPr>
        </p:nvSpPr>
        <p:spPr>
          <a:xfrm>
            <a:off x="46800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17" name="PlaceHolder 4"/>
          <p:cNvSpPr>
            <a:spLocks noGrp="1"/>
          </p:cNvSpPr>
          <p:nvPr>
            <p:ph/>
          </p:nvPr>
        </p:nvSpPr>
        <p:spPr>
          <a:xfrm>
            <a:off x="2286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0B785-EE6C-4E81-AF09-E8EF03162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19" name="PlaceHolder 2"/>
          <p:cNvSpPr>
            <a:spLocks noGrp="1"/>
          </p:cNvSpPr>
          <p:nvPr>
            <p:ph/>
          </p:nvPr>
        </p:nvSpPr>
        <p:spPr>
          <a:xfrm>
            <a:off x="228600" y="1676520"/>
            <a:ext cx="4239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0"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1" name="PlaceHolder 4"/>
          <p:cNvSpPr>
            <a:spLocks noGrp="1"/>
          </p:cNvSpPr>
          <p:nvPr>
            <p:ph/>
          </p:nvPr>
        </p:nvSpPr>
        <p:spPr>
          <a:xfrm>
            <a:off x="4680000" y="406476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7CD03-72BD-469C-A9AA-8966988B5F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eff1"/>
              </a:solidFill>
              <a:latin typeface="Arial Black"/>
            </a:endParaRPr>
          </a:p>
        </p:txBody>
      </p:sp>
      <p:sp>
        <p:nvSpPr>
          <p:cNvPr id="23" name="PlaceHolder 2"/>
          <p:cNvSpPr>
            <a:spLocks noGrp="1"/>
          </p:cNvSpPr>
          <p:nvPr>
            <p:ph/>
          </p:nvPr>
        </p:nvSpPr>
        <p:spPr>
          <a:xfrm>
            <a:off x="2286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4" name="PlaceHolder 3"/>
          <p:cNvSpPr>
            <a:spLocks noGrp="1"/>
          </p:cNvSpPr>
          <p:nvPr>
            <p:ph/>
          </p:nvPr>
        </p:nvSpPr>
        <p:spPr>
          <a:xfrm>
            <a:off x="4680000" y="1676520"/>
            <a:ext cx="4239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25" name="PlaceHolder 4"/>
          <p:cNvSpPr>
            <a:spLocks noGrp="1"/>
          </p:cNvSpPr>
          <p:nvPr>
            <p:ph/>
          </p:nvPr>
        </p:nvSpPr>
        <p:spPr>
          <a:xfrm>
            <a:off x="228600" y="4064760"/>
            <a:ext cx="86868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6969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F91A5-BAE4-41EA-9D68-03CB410E80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Click to edit the title text format</a:t>
            </a:r>
            <a:endParaRPr b="0" lang="en-US" sz="4000" spc="-1" strike="noStrike">
              <a:solidFill>
                <a:srgbClr val="99eff1"/>
              </a:solidFill>
              <a:latin typeface="Arial Black"/>
            </a:endParaRPr>
          </a:p>
        </p:txBody>
      </p:sp>
      <p:sp>
        <p:nvSpPr>
          <p:cNvPr id="1" name="PlaceHolder 2"/>
          <p:cNvSpPr>
            <a:spLocks noGrp="1"/>
          </p:cNvSpPr>
          <p:nvPr>
            <p:ph type="body"/>
          </p:nvPr>
        </p:nvSpPr>
        <p:spPr>
          <a:xfrm>
            <a:off x="228600" y="1676520"/>
            <a:ext cx="8686800" cy="457200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Click to edit the outline text format</a:t>
            </a:r>
            <a:endParaRPr b="0"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cond Outline Level</a:t>
            </a:r>
            <a:endParaRPr b="0"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ird Outline Level</a:t>
            </a:r>
            <a:endParaRPr b="0"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ourth Outline Level</a:t>
            </a:r>
            <a:endParaRPr b="0"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ifth Outline Level</a:t>
            </a:r>
            <a:endParaRPr b="0"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xth Outline Level</a:t>
            </a:r>
            <a:endParaRPr b="0"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venth Outline Level</a:t>
            </a:r>
            <a:endParaRPr b="0" lang="en-US" sz="3200" spc="-1" strike="noStrike">
              <a:solidFill>
                <a:srgbClr val="969696"/>
              </a:solidFill>
              <a:latin typeface="Arial"/>
            </a:endParaRPr>
          </a:p>
        </p:txBody>
      </p:sp>
      <p:sp>
        <p:nvSpPr>
          <p:cNvPr id="2" name="PlaceHolder 3"/>
          <p:cNvSpPr>
            <a:spLocks noGrp="1"/>
          </p:cNvSpPr>
          <p:nvPr>
            <p:ph type="dt" idx="1"/>
          </p:nvPr>
        </p:nvSpPr>
        <p:spPr>
          <a:xfrm>
            <a:off x="304560" y="6324120"/>
            <a:ext cx="190476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3" name="PlaceHolder 4"/>
          <p:cNvSpPr>
            <a:spLocks noGrp="1"/>
          </p:cNvSpPr>
          <p:nvPr>
            <p:ph type="ftr" idx="2"/>
          </p:nvPr>
        </p:nvSpPr>
        <p:spPr>
          <a:xfrm>
            <a:off x="3200040" y="6324120"/>
            <a:ext cx="289548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 name="PlaceHolder 5"/>
          <p:cNvSpPr>
            <a:spLocks noGrp="1"/>
          </p:cNvSpPr>
          <p:nvPr>
            <p:ph type="sldNum" idx="3"/>
          </p:nvPr>
        </p:nvSpPr>
        <p:spPr>
          <a:xfrm>
            <a:off x="7010280" y="63241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9351A-1B00-41D5-8480-56B4E08D0B4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8377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Click to edit the title text format</a:t>
            </a:r>
            <a:endParaRPr b="0" lang="en-US" sz="4000" spc="-1" strike="noStrike">
              <a:solidFill>
                <a:srgbClr val="99eff1"/>
              </a:solidFill>
              <a:latin typeface="Arial Black"/>
            </a:endParaRPr>
          </a:p>
        </p:txBody>
      </p:sp>
      <p:sp>
        <p:nvSpPr>
          <p:cNvPr id="42" name="PlaceHolder 2"/>
          <p:cNvSpPr>
            <a:spLocks noGrp="1"/>
          </p:cNvSpPr>
          <p:nvPr>
            <p:ph type="body"/>
          </p:nvPr>
        </p:nvSpPr>
        <p:spPr>
          <a:xfrm>
            <a:off x="228600" y="1676520"/>
            <a:ext cx="8686800" cy="4572000"/>
          </a:xfrm>
          <a:prstGeom prst="rect">
            <a:avLst/>
          </a:prstGeom>
          <a:noFill/>
          <a:ln w="0">
            <a:noFill/>
          </a:ln>
        </p:spPr>
        <p:txBody>
          <a:bodyPr lIns="90000" rIns="90000" tIns="46800" bIns="46800"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Click to edit the outline text format</a:t>
            </a:r>
            <a:endParaRPr b="0" lang="en-US" sz="3200" spc="-1" strike="noStrike">
              <a:solidFill>
                <a:srgbClr val="969696"/>
              </a:solidFill>
              <a:latin typeface="Arial"/>
            </a:endParaRPr>
          </a:p>
          <a:p>
            <a:pPr lvl="1" marL="743040" indent="-28584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cond Outline Level</a:t>
            </a:r>
            <a:endParaRPr b="0" lang="en-US" sz="3200" spc="-1" strike="noStrike">
              <a:solidFill>
                <a:srgbClr val="969696"/>
              </a:solidFill>
              <a:latin typeface="Arial"/>
            </a:endParaRPr>
          </a:p>
          <a:p>
            <a:pPr lvl="2" marL="11430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ird Outline Level</a:t>
            </a:r>
            <a:endParaRPr b="0" lang="en-US" sz="3200" spc="-1" strike="noStrike">
              <a:solidFill>
                <a:srgbClr val="969696"/>
              </a:solidFill>
              <a:latin typeface="Arial"/>
            </a:endParaRPr>
          </a:p>
          <a:p>
            <a:pPr lvl="3" marL="16002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ourth Outline Level</a:t>
            </a:r>
            <a:endParaRPr b="0" lang="en-US" sz="3200" spc="-1" strike="noStrike">
              <a:solidFill>
                <a:srgbClr val="969696"/>
              </a:solidFill>
              <a:latin typeface="Arial"/>
            </a:endParaRPr>
          </a:p>
          <a:p>
            <a:pPr lvl="4"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Fifth Outline Level</a:t>
            </a:r>
            <a:endParaRPr b="0" lang="en-US" sz="3200" spc="-1" strike="noStrike">
              <a:solidFill>
                <a:srgbClr val="969696"/>
              </a:solidFill>
              <a:latin typeface="Arial"/>
            </a:endParaRPr>
          </a:p>
          <a:p>
            <a:pPr lvl="5"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ixth Outline Level</a:t>
            </a:r>
            <a:endParaRPr b="0" lang="en-US" sz="3200" spc="-1" strike="noStrike">
              <a:solidFill>
                <a:srgbClr val="969696"/>
              </a:solidFill>
              <a:latin typeface="Arial"/>
            </a:endParaRPr>
          </a:p>
          <a:p>
            <a:pPr lvl="6" marL="2057400" indent="-22860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eventh Outline Level</a:t>
            </a:r>
            <a:endParaRPr b="0" lang="en-US" sz="3200" spc="-1" strike="noStrike">
              <a:solidFill>
                <a:srgbClr val="969696"/>
              </a:solidFill>
              <a:latin typeface="Arial"/>
            </a:endParaRPr>
          </a:p>
        </p:txBody>
      </p:sp>
      <p:sp>
        <p:nvSpPr>
          <p:cNvPr id="43" name="PlaceHolder 3"/>
          <p:cNvSpPr>
            <a:spLocks noGrp="1"/>
          </p:cNvSpPr>
          <p:nvPr>
            <p:ph type="dt" idx="4"/>
          </p:nvPr>
        </p:nvSpPr>
        <p:spPr>
          <a:xfrm>
            <a:off x="685800" y="6095520"/>
            <a:ext cx="190512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4" name="PlaceHolder 4"/>
          <p:cNvSpPr>
            <a:spLocks noGrp="1"/>
          </p:cNvSpPr>
          <p:nvPr>
            <p:ph type="ftr" idx="5"/>
          </p:nvPr>
        </p:nvSpPr>
        <p:spPr>
          <a:xfrm>
            <a:off x="3124080" y="6095520"/>
            <a:ext cx="2895840" cy="381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69696"/>
              </a:solidFill>
              <a:latin typeface="Arial"/>
            </a:endParaRPr>
          </a:p>
        </p:txBody>
      </p:sp>
      <p:sp>
        <p:nvSpPr>
          <p:cNvPr id="45" name="PlaceHolder 5"/>
          <p:cNvSpPr>
            <a:spLocks noGrp="1"/>
          </p:cNvSpPr>
          <p:nvPr>
            <p:ph type="sldNum" idx="6"/>
          </p:nvPr>
        </p:nvSpPr>
        <p:spPr>
          <a:xfrm>
            <a:off x="6553080" y="6095520"/>
            <a:ext cx="190512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EE783-B115-4563-A8E3-E417F4C10985}" type="slidenum">
              <a:rPr b="0" lang="en-US" sz="1000" spc="-1" strike="noStrike">
                <a:solidFill>
                  <a:srgbClr val="969696"/>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efining the Atom</a:t>
            </a:r>
            <a:endParaRPr b="0" lang="en-US" sz="4000" spc="-1" strike="noStrike">
              <a:solidFill>
                <a:srgbClr val="99eff1"/>
              </a:solidFill>
              <a:latin typeface="Arial Black"/>
            </a:endParaRPr>
          </a:p>
        </p:txBody>
      </p:sp>
      <p:sp>
        <p:nvSpPr>
          <p:cNvPr id="90"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ll matter is composed of atom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oms are the smallest particle of an element that retains its identity in a chemical reaction.</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om comes from the Greek word atomos meaning indivisible.</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Neutrons</a:t>
            </a:r>
            <a:endParaRPr b="0" lang="en-US" sz="4000" spc="-1" strike="noStrike">
              <a:solidFill>
                <a:srgbClr val="99eff1"/>
              </a:solidFill>
              <a:latin typeface="Arial Black"/>
            </a:endParaRPr>
          </a:p>
        </p:txBody>
      </p:sp>
      <p:sp>
        <p:nvSpPr>
          <p:cNvPr id="108"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 1932 English physicist James Chadwick (1891-1974) confirmed the existence of another subatomic particle.</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Neutrons are subatomic particles with no charge but a mass nearly equal to the proton.</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Rutherford’s Gold-Foil Experiment</a:t>
            </a:r>
            <a:endParaRPr b="0" lang="en-US" sz="4000" spc="-1" strike="noStrike">
              <a:solidFill>
                <a:srgbClr val="99eff1"/>
              </a:solidFill>
              <a:latin typeface="Arial Black"/>
            </a:endParaRPr>
          </a:p>
        </p:txBody>
      </p:sp>
      <p:sp>
        <p:nvSpPr>
          <p:cNvPr id="110"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is experiment change the prevailing thought of the structure of the atom.</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Because of this experiment Rutherford concluded that most the of alpha particles pass through b/c the atom is mostly empty space, and the reason that some of the particles were deflected were due to the concentration of the positive charge in the atom which is now known as the nucleus.</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Structure of the atom</a:t>
            </a:r>
            <a:endParaRPr b="0" lang="en-US" sz="4000" spc="-1" strike="noStrike">
              <a:solidFill>
                <a:srgbClr val="99eff1"/>
              </a:solidFill>
              <a:latin typeface="Arial Black"/>
            </a:endParaRPr>
          </a:p>
        </p:txBody>
      </p:sp>
      <p:sp>
        <p:nvSpPr>
          <p:cNvPr id="112"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nucleus of the atom is the tiny central core of an atom and is composed of protons and neutrons.</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Rutherford’s model is the nuclear atom: In the nuclear atom, the proton and neutron are located in the nucleus. The electrons are distributed around the nucleus. </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is will later be revised, let’s sneak peak @ page 128.</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istinguishing Among Atoms</a:t>
            </a:r>
            <a:endParaRPr b="0" lang="en-US" sz="4000" spc="-1" strike="noStrike">
              <a:solidFill>
                <a:srgbClr val="99eff1"/>
              </a:solidFill>
              <a:latin typeface="Arial Black"/>
            </a:endParaRPr>
          </a:p>
        </p:txBody>
      </p:sp>
      <p:sp>
        <p:nvSpPr>
          <p:cNvPr id="114"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We learned yesterday that atoms are composed of protons, neutrons, and electron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Protons and Neutrons are in the nucleus and electrons surround the nucleu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So how do elements differ if they all contain atoms?</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Atomic Number</a:t>
            </a:r>
            <a:endParaRPr b="0" lang="en-US" sz="4000" spc="-1" strike="noStrike">
              <a:solidFill>
                <a:srgbClr val="99eff1"/>
              </a:solidFill>
              <a:latin typeface="Arial Black"/>
            </a:endParaRPr>
          </a:p>
        </p:txBody>
      </p:sp>
      <p:sp>
        <p:nvSpPr>
          <p:cNvPr id="116"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Elements are different because they contain different numbers of proton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atomic number of an element is the number of protons in the nucleus of an atom in that element.</a:t>
            </a:r>
            <a:endParaRPr b="0" lang="en-US" sz="32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The atomic number of Hydrogen (H) is 1, so all hydrogen atoms have 1 proton.</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All Oxygen atoms (O) have 8 protons, so the atomic number of Oxygen is 8.</a:t>
            </a:r>
            <a:endParaRPr b="0" lang="en-US" sz="28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Atomic Number</a:t>
            </a:r>
            <a:endParaRPr b="0" lang="en-US" sz="4000" spc="-1" strike="noStrike">
              <a:solidFill>
                <a:srgbClr val="99eff1"/>
              </a:solidFill>
              <a:latin typeface="Arial Black"/>
            </a:endParaRPr>
          </a:p>
        </p:txBody>
      </p:sp>
      <p:sp>
        <p:nvSpPr>
          <p:cNvPr id="118"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Remember all atoms are electrically neutral.</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refore; the number of Protons equal the number of Electron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Meaning the number of negatively charged particles must equal the number of postively charged particles.</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Mass Number</a:t>
            </a:r>
            <a:endParaRPr b="0" lang="en-US" sz="4000" spc="-1" strike="noStrike">
              <a:solidFill>
                <a:srgbClr val="99eff1"/>
              </a:solidFill>
              <a:latin typeface="Arial Black"/>
            </a:endParaRPr>
          </a:p>
        </p:txBody>
      </p:sp>
      <p:sp>
        <p:nvSpPr>
          <p:cNvPr id="120"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Most of the mass of an atom is concentrated in its nucleu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mass number of an atom is the total number of protons and neutrons in an atom.</a:t>
            </a:r>
            <a:endParaRPr b="0" lang="en-US" sz="32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Helium (He) has 2 protons and 2 neutrons: its mass number is 4.</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Carbon (C) has 6 protons and 6 neutrons: its mass number is12.</a:t>
            </a:r>
            <a:endParaRPr b="0" lang="en-US" sz="28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Mass Number</a:t>
            </a:r>
            <a:endParaRPr b="0" lang="en-US" sz="4000" spc="-1" strike="noStrike">
              <a:solidFill>
                <a:srgbClr val="99eff1"/>
              </a:solidFill>
              <a:latin typeface="Arial Black"/>
            </a:endParaRPr>
          </a:p>
        </p:txBody>
      </p:sp>
      <p:sp>
        <p:nvSpPr>
          <p:cNvPr id="122"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f you know the atomic number and mass number of an atom, you can determine its composition.</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number of neutrons in an atom is the difference between the mass number and atomic number.</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 of neutrons = Mass # - Atomic #</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Mass Number</a:t>
            </a:r>
            <a:endParaRPr b="0" lang="en-US" sz="4000" spc="-1" strike="noStrike">
              <a:solidFill>
                <a:srgbClr val="99eff1"/>
              </a:solidFill>
              <a:latin typeface="Arial Black"/>
            </a:endParaRPr>
          </a:p>
        </p:txBody>
      </p:sp>
      <p:sp>
        <p:nvSpPr>
          <p:cNvPr id="124"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composition of an atom can be written in Shorthand notation using atomic number and mass number.</a:t>
            </a:r>
            <a:endParaRPr b="0" lang="en-US" sz="32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x: Look at Figure 4.8</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The atomic number is the subscript and the mass number is the superscript. </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How many electrons does a gold atom have?</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How many neutrons does a gold atom have?</a:t>
            </a:r>
            <a:endParaRPr b="0" lang="en-US" sz="28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emocritus</a:t>
            </a:r>
            <a:endParaRPr b="0" lang="en-US" sz="4000" spc="-1" strike="noStrike">
              <a:solidFill>
                <a:srgbClr val="99eff1"/>
              </a:solidFill>
              <a:latin typeface="Arial Black"/>
            </a:endParaRPr>
          </a:p>
        </p:txBody>
      </p:sp>
      <p:sp>
        <p:nvSpPr>
          <p:cNvPr id="92"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mocritus (460 BC – 370 BC) was among the 1</a:t>
            </a:r>
            <a:r>
              <a:rPr b="0" lang="en-US" sz="3200" spc="-1" strike="noStrike" baseline="30000">
                <a:solidFill>
                  <a:srgbClr val="969696"/>
                </a:solidFill>
                <a:latin typeface="Arial"/>
              </a:rPr>
              <a:t>st</a:t>
            </a:r>
            <a:r>
              <a:rPr b="0" lang="en-US" sz="3200" spc="-1" strike="noStrike">
                <a:solidFill>
                  <a:srgbClr val="969696"/>
                </a:solidFill>
                <a:latin typeface="Arial"/>
              </a:rPr>
              <a:t> to suggest the existence of atom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emocritus believed that atoms were indivisible and indestructible.</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His approached was not based on scientific method and was not accepted until later scientific theory.</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alton’s Atomic Theory</a:t>
            </a:r>
            <a:endParaRPr b="0" lang="en-US" sz="4000" spc="-1" strike="noStrike">
              <a:solidFill>
                <a:srgbClr val="99eff1"/>
              </a:solidFill>
              <a:latin typeface="Arial Black"/>
            </a:endParaRPr>
          </a:p>
        </p:txBody>
      </p:sp>
      <p:sp>
        <p:nvSpPr>
          <p:cNvPr id="94"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 modern atomic thought began with John Dalton (1766-1844)</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alton used experimental method to transform Democritus’s idea of atoms into a scientific theory.</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alton studied the ratios in which elements combine and the result was Dalton’s atomic theory.</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Dalton’s Atomic Theory</a:t>
            </a:r>
            <a:endParaRPr b="0" lang="en-US" sz="4000" spc="-1" strike="noStrike">
              <a:solidFill>
                <a:srgbClr val="99eff1"/>
              </a:solidFill>
              <a:latin typeface="Arial Black"/>
            </a:endParaRPr>
          </a:p>
        </p:txBody>
      </p:sp>
      <p:sp>
        <p:nvSpPr>
          <p:cNvPr id="96"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The ideas of Dalton’s Theory are:</a:t>
            </a:r>
            <a:endParaRPr b="0" lang="en-US" sz="2800" spc="-1" strike="noStrike">
              <a:solidFill>
                <a:srgbClr val="969696"/>
              </a:solidFill>
              <a:latin typeface="Arial"/>
            </a:endParaRPr>
          </a:p>
          <a:p>
            <a:pPr lvl="1" marL="743040" indent="-285840">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ll elements are composed of tiny particles called atoms.</a:t>
            </a:r>
            <a:endParaRPr b="0" lang="en-US" sz="2400" spc="-1" strike="noStrike">
              <a:solidFill>
                <a:srgbClr val="969696"/>
              </a:solidFill>
              <a:latin typeface="Arial"/>
            </a:endParaRPr>
          </a:p>
          <a:p>
            <a:pPr lvl="1" marL="743040" indent="-285840">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toms of the same element are identical. Atoms of different elements are different.</a:t>
            </a:r>
            <a:endParaRPr b="0" lang="en-US" sz="2400" spc="-1" strike="noStrike">
              <a:solidFill>
                <a:srgbClr val="969696"/>
              </a:solidFill>
              <a:latin typeface="Arial"/>
            </a:endParaRPr>
          </a:p>
          <a:p>
            <a:pPr lvl="1" marL="743040" indent="-285840">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Atoms of different elements can physically mix together or chemically combine in simple whole number ratios to form compounds.</a:t>
            </a:r>
            <a:endParaRPr b="0" lang="en-US" sz="2400" spc="-1" strike="noStrike">
              <a:solidFill>
                <a:srgbClr val="969696"/>
              </a:solidFill>
              <a:latin typeface="Arial"/>
            </a:endParaRPr>
          </a:p>
          <a:p>
            <a:pPr lvl="1" marL="743040" indent="-285840">
              <a:spcBef>
                <a:spcPts val="601"/>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Arial"/>
              </a:rPr>
              <a:t>Chemical reactions occur when atoms are separated, joined, or rearranged. Atoms of one element are never changed.</a:t>
            </a:r>
            <a:endParaRPr b="0" lang="en-US" sz="24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Sizing Up Atoms</a:t>
            </a:r>
            <a:endParaRPr b="0" lang="en-US" sz="4000" spc="-1" strike="noStrike">
              <a:solidFill>
                <a:srgbClr val="99eff1"/>
              </a:solidFill>
              <a:latin typeface="Arial Black"/>
            </a:endParaRPr>
          </a:p>
        </p:txBody>
      </p:sp>
      <p:sp>
        <p:nvSpPr>
          <p:cNvPr id="98"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OMS ARE TINY!!!!!!</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 pure copper coin the size of a penny contains 2.4 x 10</a:t>
            </a:r>
            <a:r>
              <a:rPr b="0" lang="en-US" sz="3200" spc="-1" strike="noStrike" baseline="30000">
                <a:solidFill>
                  <a:srgbClr val="969696"/>
                </a:solidFill>
                <a:latin typeface="Arial"/>
              </a:rPr>
              <a:t>22 </a:t>
            </a:r>
            <a:r>
              <a:rPr b="0" lang="en-US" sz="3200" spc="-1" strike="noStrike">
                <a:solidFill>
                  <a:srgbClr val="969696"/>
                </a:solidFill>
                <a:latin typeface="Arial"/>
              </a:rPr>
              <a:t>  copper atoms. There are only about 6 x 10</a:t>
            </a:r>
            <a:r>
              <a:rPr b="0" lang="en-US" sz="3200" spc="-1" strike="noStrike" baseline="30000">
                <a:solidFill>
                  <a:srgbClr val="969696"/>
                </a:solidFill>
                <a:latin typeface="Arial"/>
              </a:rPr>
              <a:t>9</a:t>
            </a:r>
            <a:r>
              <a:rPr b="0" lang="en-US" sz="3200" spc="-1" strike="noStrike">
                <a:solidFill>
                  <a:srgbClr val="969696"/>
                </a:solidFill>
                <a:latin typeface="Arial"/>
              </a:rPr>
              <a:t> people on Earth!!!</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Individual atoms are observable with instruments such as scanning tunneling microscopes.</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Subatomic Particles</a:t>
            </a:r>
            <a:endParaRPr b="0" lang="en-US" sz="4000" spc="-1" strike="noStrike">
              <a:solidFill>
                <a:srgbClr val="99eff1"/>
              </a:solidFill>
              <a:latin typeface="Arial Black"/>
            </a:endParaRPr>
          </a:p>
        </p:txBody>
      </p:sp>
      <p:sp>
        <p:nvSpPr>
          <p:cNvPr id="100"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Atoms are now know to be broken down into smaller, more fundamental particles called subatomic particle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re are 3 kinds of subatomic Particles.</a:t>
            </a:r>
            <a:endParaRPr b="0" lang="en-US" sz="32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Electrons</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Protons</a:t>
            </a:r>
            <a:endParaRPr b="0" lang="en-US" sz="2800" spc="-1" strike="noStrike">
              <a:solidFill>
                <a:srgbClr val="969696"/>
              </a:solidFill>
              <a:latin typeface="Arial"/>
            </a:endParaRPr>
          </a:p>
          <a:p>
            <a:pPr lvl="1" marL="743040" indent="-285840">
              <a:spcBef>
                <a:spcPts val="700"/>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69696"/>
                </a:solidFill>
                <a:latin typeface="Arial"/>
              </a:rPr>
              <a:t>Neutrons</a:t>
            </a:r>
            <a:endParaRPr b="0" lang="en-US" sz="28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Electrons</a:t>
            </a:r>
            <a:endParaRPr b="0" lang="en-US" sz="4000" spc="-1" strike="noStrike">
              <a:solidFill>
                <a:srgbClr val="99eff1"/>
              </a:solidFill>
              <a:latin typeface="Arial Black"/>
            </a:endParaRPr>
          </a:p>
        </p:txBody>
      </p:sp>
      <p:sp>
        <p:nvSpPr>
          <p:cNvPr id="102"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Discovered in 1897 by J.J. Thomson (1856-1940) an English physicist.</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ey are negatively charged subatomic particles.</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Thomson performed experiments using a sealed glass tube with gases in it. He passed an electric current through the tube and the result was a cathode ray.</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Electrons Continued</a:t>
            </a:r>
            <a:endParaRPr b="0" lang="en-US" sz="4000" spc="-1" strike="noStrike">
              <a:solidFill>
                <a:srgbClr val="99eff1"/>
              </a:solidFill>
              <a:latin typeface="Arial Black"/>
            </a:endParaRPr>
          </a:p>
        </p:txBody>
      </p:sp>
      <p:sp>
        <p:nvSpPr>
          <p:cNvPr id="104"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U.S. physicist Robert A. Millikan (1868-1953) carried out experiments to find the quantity of charge carried out by an electron.</a:t>
            </a:r>
            <a:endParaRPr b="0" lang="en-US" sz="3200" spc="-1" strike="noStrike">
              <a:solidFill>
                <a:srgbClr val="969696"/>
              </a:solidFill>
              <a:latin typeface="Arial"/>
            </a:endParaRPr>
          </a:p>
          <a:p>
            <a:pPr marL="343080" indent="-343080">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He calculated the mass of the electron; that is very similar to the excepted mass given today.</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837720"/>
            <a:ext cx="86868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eff1"/>
                </a:solidFill>
                <a:latin typeface="Arial Black"/>
              </a:rPr>
              <a:t>Protons</a:t>
            </a:r>
            <a:endParaRPr b="0" lang="en-US" sz="4000" spc="-1" strike="noStrike">
              <a:solidFill>
                <a:srgbClr val="99eff1"/>
              </a:solidFill>
              <a:latin typeface="Arial Black"/>
            </a:endParaRPr>
          </a:p>
        </p:txBody>
      </p:sp>
      <p:sp>
        <p:nvSpPr>
          <p:cNvPr id="106" name="PlaceHolder 2"/>
          <p:cNvSpPr>
            <a:spLocks noGrp="1"/>
          </p:cNvSpPr>
          <p:nvPr>
            <p:ph/>
          </p:nvPr>
        </p:nvSpPr>
        <p:spPr>
          <a:xfrm>
            <a:off x="228600" y="1676520"/>
            <a:ext cx="8686800" cy="4572000"/>
          </a:xfrm>
          <a:prstGeom prst="rect">
            <a:avLst/>
          </a:prstGeom>
          <a:noFill/>
          <a:ln w="0">
            <a:noFill/>
          </a:ln>
        </p:spPr>
        <p:txBody>
          <a:bodyPr anchor="t">
            <a:normAutofit/>
          </a:bodyPr>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Eugen Goldstein (1850-1930) observed in 1886 that in a cathode-ray tube there were rays going in the opposite direction. He concluded they were positively charged particles.</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Protons are positively charged subatomic particles.</a:t>
            </a:r>
            <a:endParaRPr b="0" lang="en-US" sz="3200" spc="-1" strike="noStrike">
              <a:solidFill>
                <a:srgbClr val="969696"/>
              </a:solidFill>
              <a:latin typeface="Arial"/>
            </a:endParaRPr>
          </a:p>
          <a:p>
            <a:pPr marL="343080" indent="-343080">
              <a:lnSpc>
                <a:spcPct val="90000"/>
              </a:lnSpc>
              <a:spcBef>
                <a:spcPts val="799"/>
              </a:spcBef>
              <a:buClr>
                <a:srgbClr val="9696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Each proton has a mass about 1840 times that of an electron.</a:t>
            </a:r>
            <a:endParaRPr b="0" lang="en-US" sz="3200" spc="-1" strike="noStrike">
              <a:solidFill>
                <a:srgbClr val="96969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3T11:40:42Z</dcterms:created>
  <dc:creator>Chesterfield County Public Schools</dc:creator>
  <dc:description/>
  <cp:keywords/>
  <dc:language>en-US</dc:language>
  <cp:lastModifiedBy>RomaK</cp:lastModifiedBy>
  <dcterms:modified xsi:type="dcterms:W3CDTF">2015-09-03T12:20:10Z</dcterms:modified>
  <cp:revision>6</cp:revision>
  <dc:subject/>
  <dc:title>Defining the At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721171033</vt:lpwstr>
  </property>
</Properties>
</file>